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286-A59D-4763-B8CB-7509E732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4D2-4D7C-4C2A-853B-A1D1DB3B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816-6438-4765-86F0-3269FC56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22E-1162-4D86-8667-7D585B68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298-AB6A-4013-B156-FA481F09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783-C226-4334-A423-DD3751C3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96E-023C-49B5-A718-7E6023D1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665-12D1-4A15-9B99-16C281F9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DC7-49B6-4D6F-9AC0-7854C2BF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56E-CBAB-4AAD-9A80-719AB79F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3B6-C64F-4986-89F9-A90ECD9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08B-4EF8-44F2-A22A-7579053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69B6-2FC1-4BCA-ADB8-BEFD553DE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inosity Inc. Organization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2209680"/>
          <a:ext cx="78487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8487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stwood Video Organization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28920" y="1984320"/>
          <a:ext cx="4286160" cy="41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984320"/>
                    <a:ext cx="428616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00:48:16Z</dcterms:created>
  <dc:creator>Eric M. Lopez</dc:creator>
  <dc:description/>
  <dc:language>en-US</dc:language>
  <cp:lastModifiedBy>Eric M. Lopez</cp:lastModifiedBy>
  <dcterms:modified xsi:type="dcterms:W3CDTF">2000-02-07T02:18:34Z</dcterms:modified>
  <cp:revision>3</cp:revision>
  <dc:subject/>
  <dc:title>Luminosity Inc. Organization Chart</dc:title>
</cp:coreProperties>
</file>